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E7A7-C04C-4CBD-AF9F-79F723A68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1D58-4CD0-42D5-A5ED-A63C809FA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988-C512-4D0B-912D-060A540F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5404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417-43CD-4B2A-97B2-ECD05828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540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41540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4D9-9A5B-46D2-8D96-EAD0C73A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4475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4475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540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41540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41540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EB4-16E1-42F4-B9DE-DD09F9CC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DC9A-BA5C-4716-9798-6F8B993E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F499-E53E-4708-80EE-C2AC824E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9965-06F3-4FF8-B8C0-CB0D9AE8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5159-603F-4217-9091-134DCE1F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9E42-0C2C-42BE-9D36-D2C70B42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235440"/>
            <a:ext cx="830592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CD64-F4A2-4126-BF42-F1EF6FB3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41540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259C-DBF6-4CE2-AB28-F27195F7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29F-3AE1-4185-84EE-840CFE5D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00680" y="41540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6567-3B36-44C6-BEC3-197F4D3E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15404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E746-8205-487E-A6A1-25D56F0A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62120" y="415404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955F-6BD2-4133-80AD-7C682477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62120" y="41540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00680" y="41540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586B-85E8-4ED0-B8A4-A2B40326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93080" y="14475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0" y="14475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62120" y="41540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93080" y="41540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24400" y="41540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BB14-184A-4C14-B26B-E1DA5465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DBE-90AD-4088-B947-AA4DC6C1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A2E-2CDE-49C9-AB21-9847C5E3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D10-6FF4-4B36-BFCB-5C032518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35440"/>
            <a:ext cx="830592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A95-9541-4C39-9ED2-09862E98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540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E2B-0BC3-4E55-81CA-2A9B9BFA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41540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CB3-4853-46DF-8345-525AB7C4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5404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D20-0B37-43F6-B44B-A8A4B1C9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0" y="1143000"/>
            <a:ext cx="6899400" cy="171360"/>
          </a:xfrm>
          <a:prstGeom prst="pie">
            <a:avLst/>
          </a:pr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716040" cy="6400800"/>
          </a:xfrm>
          <a:prstGeom prst="pie">
            <a:avLst/>
          </a:pr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04920" y="762120"/>
            <a:ext cx="152280" cy="914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AE7C-4AB2-4336-8CA9-63417DD9A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Freeform 3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prstGeom prst="pie">
              <a:avLst/>
            </a:pr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" name="Group 4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Group 5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Freeform 6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prstGeom prst="pie">
                  <a:avLst/>
                </a:pr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7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prstGeom prst="pie">
                  <a:avLst/>
                </a:pr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" name="Freeform 8"/>
              <p:cNvSpPr/>
              <p:nvPr/>
            </p:nvSpPr>
            <p:spPr>
              <a:xfrm>
                <a:off x="3844080" y="3182400"/>
                <a:ext cx="466560" cy="236520"/>
              </a:xfrm>
              <a:prstGeom prst="pie">
                <a:avLst/>
              </a:pr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" name="Freeform 9"/>
              <p:cNvSpPr/>
              <p:nvPr/>
            </p:nvSpPr>
            <p:spPr>
              <a:xfrm>
                <a:off x="4618080" y="3124080"/>
                <a:ext cx="81360" cy="200880"/>
              </a:xfrm>
              <a:prstGeom prst="pie">
                <a:avLst/>
              </a:pr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594320" y="3156120"/>
                <a:ext cx="419760" cy="236160"/>
              </a:xfrm>
              <a:prstGeom prst="pie">
                <a:avLst/>
              </a:pr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0F04-7215-4470-8FEE-DF5C18A7C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217240"/>
            <a:ext cx="777240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 Clean is our A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gating Air 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arbon Form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ased through combustion or burning of materials that contain car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carb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monoxide (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dioxide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Hydrocarbon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latile organic compounds (VOC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containing carbon that forms when sunlight reacts with chemicals in the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rces of chemic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porating gas and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s, primers, sea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chemicals (toluene, benzene, phenols, chloro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97200"/>
            <a:ext cx="830592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arbon Dioxide and Carbon Monox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al combustion engines release carbon gas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combustion =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combustion = carbon mon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billion metric tons of carbon monoxide released every year by vehicles alon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bon dioxide is a major component of sm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ulfur Oxid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level can be detected by a “rotten egg –type” o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sulfur ox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lfur dioxide(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lfur trioxide(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ulfur Diox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d when fuels containing sulfur are bu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and o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ural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can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 sp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t from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lfur dioxide is the second major component of sm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ulfur Triox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major gas that causes acid r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le to combine with water vapor to form sulfuric acid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y strong acid quickly reacts with materials when contract is mad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id rain can cause damage to plants and property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itrogen Oxid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ed during combustion of fuels with nitrog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for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monoxide (N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dioxid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ffects of nitrogen oxides are similar to those of of sulfur ox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major gas that causes acid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8305920" cy="6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Effects of Air Pollu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5410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 health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respiratory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disea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g Canc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yse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ch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lung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e3njvkbo[1]"/>
          <p:cNvPicPr/>
          <p:nvPr/>
        </p:nvPicPr>
        <p:blipFill>
          <a:blip r:embed="rId9"/>
          <a:stretch/>
        </p:blipFill>
        <p:spPr>
          <a:xfrm>
            <a:off x="6019920" y="1600200"/>
            <a:ext cx="27460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8305920" cy="6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Effects of Air Pollu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6705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air comes in through nostri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hairs and moist membranes that filter dust and some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erials that get past the small hairs may be absorbed by the mucous membranes in lung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q4nfouay[1]"/>
          <p:cNvPicPr/>
          <p:nvPr/>
        </p:nvPicPr>
        <p:blipFill>
          <a:blip r:embed="rId5"/>
          <a:stretch/>
        </p:blipFill>
        <p:spPr>
          <a:xfrm>
            <a:off x="7515360" y="1854360"/>
            <a:ext cx="162864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8305920" cy="6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Effects of Air Pollu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1270080" y="0"/>
            <a:ext cx="724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is Air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isible, tasteless, and odorless mixture of gases that surrounds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ide 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found inside 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bient 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(atmosphere) out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8305920" cy="6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Effects of Air Pollu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ir pollution affects lungs of other animals similar to huma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eed produced in areas near high air pollution may be poison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cid rain can also destroy wild fish population in lakes and streams if in a strong enough concentr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8305920" cy="6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Effects of Air Pollu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ir pollution may cause damage to fruits, vegetables, flowers, trees, lawn grasses, and other plant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ral pollutants can destroy leaf tissue in plant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 cannot manufacture the needed chlorophy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tecting Air from Pollut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ing e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ubbers can be used on factory s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uels that produce less sulfur, carbon, and nitr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eng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fuel is burned = fewer pollu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ing and recyc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ing saf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is Air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jor components of 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trogen -7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ygen – 21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gon – 0.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bon dioxide - 0.0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e ga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on, ammonia, helium, methane, krypton,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ility of quality air is critical to both plants and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h ambient and inside air quality is impor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is Air Pollution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ence of materials in the air that damage air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thing other than the natural gases pre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ural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7200" y="358560"/>
            <a:ext cx="8596440" cy="6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ypes and Sources of Air Pollu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major types of air pollut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ulate m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articulate Matte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all particles similar to dust and droplets of liq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visible and noticeable type of air pol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air pollution is of this ty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cities, 90% is due to human inter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articulate Matte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oke from fact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ning trash and forest fi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st from roads and m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icult to identif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ain in the atmosphere for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fications of gas pollut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bon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lfur ox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trogen ox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20:25:24Z</dcterms:created>
  <dc:creator>dmouser</dc:creator>
  <dc:description/>
  <dc:language>en-US</dc:language>
  <cp:lastModifiedBy>Alicia Burge</cp:lastModifiedBy>
  <dcterms:modified xsi:type="dcterms:W3CDTF">2010-11-22T23:57:05Z</dcterms:modified>
  <cp:revision>14</cp:revision>
  <dc:subject/>
  <dc:title>Central Core CD  Unit A</dc:title>
</cp:coreProperties>
</file>